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1DD-49AF-40BD-8F7A-1CEC926D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8D6-FC94-4B0E-8880-3B0C2D4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F81-C1E4-4D3D-AFE8-ECD1BB4D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18D-E7C8-4D50-A0D5-565E214C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F4A-9E3F-4601-A4DF-4AF62F46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4D4-9E46-42F1-BEDE-38108A67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C4F-1841-4BC9-BC58-A9965F79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451-7B25-40BF-8C38-6105DD21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9E-641D-46BB-96D0-EA2B7F90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2EE-A062-4553-8D84-D776157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8ED-D612-4104-8D6F-D9D67EF1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189-2037-40F3-BECE-ACFA78D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859-AE93-488F-BBB6-36432ABD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tatement being argu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so called the proposi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in which you build your case using logical reasons and evid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in which you refute your opponents arguments and rebuild your case after your opponent has refuted your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urrent state of affai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. According to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tus qu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omen are allowed to seek an abor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ob of proving that some harm exists due to the status quo and a change is thus necess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in a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ffirmative speaks for  6 minutes, making a constructive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speaks for 6 minutes, making a constructive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calls on a subsequent speaker for the affirm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calls on a subsequent speaker for the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may continue to call on subsequent speakers as time and interest al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makes a rebuttal and closing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ffirmative makes a rebuttal and closing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takes a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what the speaker has to say or want to question the current speaker, you may make a “Motion to extend the speakers time by a minute (for ques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ired of the debate, you may make a “Motion to previous question.” The debate will then move to closing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 to find out which side has better logical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hould you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thinking skills taught in debate can save you money, time, and trou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bate is the foundation of a democratic government. You live in a democrac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crush your enem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rm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equent 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tus qu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firma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argues in favor of the res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has the burden of pro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gets the first and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argues against the res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speaks after the affirm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has the status quo in favor of their argu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eps order during the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es the resolution and spea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s on questions and subsequent spea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the final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lies best speaker ball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equent 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 impromptu speaker on behalf of ei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speeches are three minutes l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yield your time to another speaker if there 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0:50:16Z</dcterms:created>
  <dc:creator>*</dc:creator>
  <dc:description/>
  <dc:language>en-US</dc:language>
  <cp:lastModifiedBy>username</cp:lastModifiedBy>
  <dcterms:modified xsi:type="dcterms:W3CDTF">2009-11-10T19:23:31Z</dcterms:modified>
  <cp:revision>6</cp:revision>
  <dc:subject/>
  <dc:title>Debate</dc:title>
</cp:coreProperties>
</file>